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E13FD-5367-43BA-854B-33A2A977D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BA13-2965-43BD-AA70-B99D2351B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D5DCB-B6E0-4ACF-8D9F-5A8FCB9F9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051C-B3E5-4B58-B07F-0458A0899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BC22F-043C-42D7-A64B-0EDA98AD96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836AC-EEE9-496D-9D3D-DB131C9C24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3B4B5-82FB-4AFC-BB50-03CD1033E5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FE5A8-6095-4A6D-BDE7-A7A5D3FEB0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8A21E-7E73-46A6-B236-2630804573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57CFC-C92D-47D0-A3C0-E5CCA05764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8FAE7-005E-4312-A427-14FD7A483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2B93-D3B2-4CFD-A269-7755A8B6B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05A9B-F783-499B-BB52-28E4AB8B58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E32D6-5BBA-4CE9-8F89-6111B71BE4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02700-4F93-4A12-9A46-1C688A03CB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B68DE-8EA5-4A54-8D97-471858981A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BA56E-F630-4926-96F1-BE1549C567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38D6-9B2A-41EC-8AD3-AC65C4790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96BB-EB26-49B7-9F4C-5E3FF36C4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A663-3D4D-4BF8-9B39-A8D10F1B8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432EC-8203-46D8-ADCF-604628015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C644-222F-46B0-8726-593DC71E1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67A1-9069-43D1-A74C-520A4494F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575B-C611-43DD-BA62-198A2FDF3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F55C2D3-811A-42DE-9A12-B8FB44896C3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5FC49E4-375C-4F79-9500-6959379BEFF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DBAB7DF-A392-4C5F-8231-5E4D6BBCF7D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FD47D01-070D-4739-9F60-AC67C25D02E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2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see CBU website for detai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the response, Y,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Next week (Thursday)…. 11am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Peter Watson 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Administrator</cp:lastModifiedBy>
  <dcterms:modified xsi:type="dcterms:W3CDTF">2009-09-04T11:26:14Z</dcterms:modified>
  <cp:revision>323</cp:revision>
  <dc:subject/>
  <dc:title>Exploratory Data Analysis</dc:title>
</cp:coreProperties>
</file>